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B9C-F4C5-48C0-AFD5-DE9A6895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783-113E-48CB-A2F4-44C7D6D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6C7-03A7-4430-AA7C-623B6525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C67-BA12-4A02-9F0B-3E57E626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0EAB-A837-4138-8B68-D1F79876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C816-61FD-48F7-9458-C5E763E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B46-C3E9-4F5D-B3D5-A9B85B4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9A0C-7623-414C-8A36-9A4F1681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9963-9F41-47BF-9734-B00FD39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8F92-77F4-4026-A7AF-D0198F83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15D5-2A66-45D8-B5D2-1E3A450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593-C8BB-4644-AFF8-3805AAF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4012-9BEE-4135-BE3F-E377F35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045-1E26-4BE0-8C9E-81BDD926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67F-142E-49CB-86E4-A42B009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52F9-E355-4321-BDE5-2D5AA151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496-5938-4771-AB69-AFC9E747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81F-62FE-4CF6-87F9-28D6216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319-C1A1-4E07-82C9-552073CF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A2E-5BE8-4B1E-BD67-018FBC3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941-1616-4A8C-970F-9108E4F0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484-568C-4763-ACA4-96DA21A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C4D-9FB5-4829-8592-41389FD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E72-035D-408E-BAA2-A2B91EC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3A50-8F57-4642-B40C-ECF2E4DCCF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E48-DC92-452D-9F13-E34A8C5C78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21156000">
            <a:off x="2209320" y="380880"/>
            <a:ext cx="4362480" cy="3132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ccecff"/>
                </a:solidFill>
                <a:latin typeface="Arial"/>
              </a:rPr>
              <a:t>Alcatraz</a:t>
            </a:r>
            <a:endParaRPr b="0" lang="en-US" sz="1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es-battle-1.jpg"/>
          <p:cNvPicPr/>
          <p:nvPr/>
        </p:nvPicPr>
        <p:blipFill>
          <a:blip r:embed="rId2"/>
          <a:stretch/>
        </p:blipFill>
        <p:spPr>
          <a:xfrm rot="21207000">
            <a:off x="2437920" y="3733560"/>
            <a:ext cx="4152960" cy="2923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ufus Roy McC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es-mccain.jpg"/>
          <p:cNvPicPr/>
          <p:nvPr/>
        </p:nvPicPr>
        <p:blipFill>
          <a:blip r:embed="rId1"/>
          <a:stretch/>
        </p:blipFill>
        <p:spPr>
          <a:xfrm>
            <a:off x="0" y="0"/>
            <a:ext cx="396540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lph Ro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es-roe.jpg"/>
          <p:cNvPicPr/>
          <p:nvPr/>
        </p:nvPicPr>
        <p:blipFill>
          <a:blip r:embed="rId1"/>
          <a:stretch/>
        </p:blipFill>
        <p:spPr>
          <a:xfrm>
            <a:off x="0" y="0"/>
            <a:ext cx="5132520" cy="5257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odore Co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es-cole-1.jpg"/>
          <p:cNvPicPr/>
          <p:nvPr/>
        </p:nvPicPr>
        <p:blipFill>
          <a:blip r:embed="rId1"/>
          <a:stretch/>
        </p:blipFill>
        <p:spPr>
          <a:xfrm>
            <a:off x="0" y="0"/>
            <a:ext cx="4773600" cy="487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es-cole-2.jpg"/>
          <p:cNvPicPr/>
          <p:nvPr/>
        </p:nvPicPr>
        <p:blipFill>
          <a:blip r:embed="rId2"/>
          <a:stretch/>
        </p:blipFill>
        <p:spPr>
          <a:xfrm>
            <a:off x="4724280" y="1143000"/>
            <a:ext cx="44150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seph Bow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es-bowers.jpg"/>
          <p:cNvPicPr/>
          <p:nvPr/>
        </p:nvPicPr>
        <p:blipFill>
          <a:blip r:embed="rId1"/>
          <a:stretch/>
        </p:blipFill>
        <p:spPr>
          <a:xfrm>
            <a:off x="0" y="0"/>
            <a:ext cx="3035160" cy="358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hn G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es-giles.jpg"/>
          <p:cNvPicPr/>
          <p:nvPr/>
        </p:nvPicPr>
        <p:blipFill>
          <a:blip r:embed="rId1"/>
          <a:stretch/>
        </p:blipFill>
        <p:spPr>
          <a:xfrm>
            <a:off x="0" y="0"/>
            <a:ext cx="4681440" cy="3349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seph Paul Cretz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es-cretzer.jpg"/>
          <p:cNvPicPr/>
          <p:nvPr/>
        </p:nvPicPr>
        <p:blipFill>
          <a:blip r:embed="rId1"/>
          <a:stretch/>
        </p:blipFill>
        <p:spPr>
          <a:xfrm>
            <a:off x="0" y="1265400"/>
            <a:ext cx="5526000" cy="5592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vin Hubb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es-hubbard.jpg"/>
          <p:cNvPicPr/>
          <p:nvPr/>
        </p:nvPicPr>
        <p:blipFill>
          <a:blip r:embed="rId1"/>
          <a:stretch/>
        </p:blipFill>
        <p:spPr>
          <a:xfrm>
            <a:off x="0" y="0"/>
            <a:ext cx="4416480" cy="341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447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yde M. Joh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es-johnson.jpg"/>
          <p:cNvPicPr/>
          <p:nvPr/>
        </p:nvPicPr>
        <p:blipFill>
          <a:blip r:embed="rId1"/>
          <a:stretch/>
        </p:blipFill>
        <p:spPr>
          <a:xfrm>
            <a:off x="5184720" y="0"/>
            <a:ext cx="3959280" cy="556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yde M. Johns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September 29, 1958 Clyde and Aaron Burgett over powered an officer and attempted to swim away from Alcatra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yde was caught and Burgett was not until two weeks later they found his body floating in the b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676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rence Angl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es-clarence-anglin.jpg"/>
          <p:cNvPicPr/>
          <p:nvPr/>
        </p:nvPicPr>
        <p:blipFill>
          <a:blip r:embed="rId1"/>
          <a:stretch/>
        </p:blipFill>
        <p:spPr>
          <a:xfrm>
            <a:off x="4724280" y="0"/>
            <a:ext cx="42958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catraz Prison Ce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97760" y="0"/>
            <a:ext cx="294624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978280"/>
            <a:ext cx="5562720" cy="387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2133720" cy="2011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38480" y="1447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s is Al Capon’s cell (cell B-1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catra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 one point Alcatraz had a total of seven hundred fifty in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catraz’s prison cell’s typical size was 5x7 f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alcatrazhistory.com/escapes1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 Cap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33920" y="1219320"/>
            <a:ext cx="559260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 Cap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 Capone was a bad man but everyone has two sides, he was one of the most famous gangsters ever known and he was the first person ever to open a soup kitchen (a soup kitchen is a place were homeless people go to get some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chine Gun Ke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mgk001004.jpg"/>
          <p:cNvPicPr/>
          <p:nvPr/>
        </p:nvPicPr>
        <p:blipFill>
          <a:blip r:embed="rId2"/>
          <a:stretch/>
        </p:blipFill>
        <p:spPr>
          <a:xfrm>
            <a:off x="4343400" y="1143000"/>
            <a:ext cx="4800600" cy="302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mgk001005.jpg"/>
          <p:cNvPicPr/>
          <p:nvPr/>
        </p:nvPicPr>
        <p:blipFill>
          <a:blip r:embed="rId3"/>
          <a:stretch/>
        </p:blipFill>
        <p:spPr>
          <a:xfrm>
            <a:off x="0" y="3848040"/>
            <a:ext cx="3105000" cy="300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mgk-1a.jpg"/>
          <p:cNvPicPr/>
          <p:nvPr/>
        </p:nvPicPr>
        <p:blipFill>
          <a:blip r:embed="rId4"/>
          <a:stretch/>
        </p:blipFill>
        <p:spPr>
          <a:xfrm>
            <a:off x="3124080" y="3857760"/>
            <a:ext cx="3076560" cy="300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bert Str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stroud-2001001.jpg"/>
          <p:cNvPicPr/>
          <p:nvPr/>
        </p:nvPicPr>
        <p:blipFill>
          <a:blip r:embed="rId1"/>
          <a:stretch/>
        </p:blipFill>
        <p:spPr>
          <a:xfrm>
            <a:off x="0" y="0"/>
            <a:ext cx="3581280" cy="22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stroud-1.jpg"/>
          <p:cNvPicPr/>
          <p:nvPr/>
        </p:nvPicPr>
        <p:blipFill>
          <a:blip r:embed="rId2"/>
          <a:stretch/>
        </p:blipFill>
        <p:spPr>
          <a:xfrm>
            <a:off x="5133960" y="838080"/>
            <a:ext cx="4010040" cy="260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stroud-1b.jpg"/>
          <p:cNvPicPr/>
          <p:nvPr/>
        </p:nvPicPr>
        <p:blipFill>
          <a:blip r:embed="rId3"/>
          <a:stretch/>
        </p:blipFill>
        <p:spPr>
          <a:xfrm>
            <a:off x="5133960" y="3429000"/>
            <a:ext cx="401004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295280" y="2209680"/>
            <a:ext cx="3505320" cy="2222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bert Str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bert Stroud first came to Alcatraz in 1942 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nri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h-young001004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Doc Bark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es-barker.jpg"/>
          <p:cNvPicPr/>
          <p:nvPr/>
        </p:nvPicPr>
        <p:blipFill>
          <a:blip r:embed="rId1"/>
          <a:stretch/>
        </p:blipFill>
        <p:spPr>
          <a:xfrm>
            <a:off x="0" y="0"/>
            <a:ext cx="3678120" cy="3733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8:32Z</dcterms:created>
  <dc:creator>Thomas A. Nowak</dc:creator>
  <dc:description/>
  <dc:language>en-US</dc:language>
  <cp:lastModifiedBy>Thomas Nowak</cp:lastModifiedBy>
  <dcterms:modified xsi:type="dcterms:W3CDTF">2010-03-25T23:26:42Z</dcterms:modified>
  <cp:revision>7</cp:revision>
  <dc:subject/>
  <dc:title>Alcatraz</dc:title>
</cp:coreProperties>
</file>